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B0A-F260-4E1B-8B5E-089C0828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473-EF67-40BC-BDF6-5DAE292A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A19-A1BA-4DC4-8C33-BD6E7B7A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77D-CEB7-4161-B1E4-B0F718EC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F4F2-5F31-46D0-ACAE-4A781F2D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D57-3412-43BA-9737-AE720A3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5E2-8419-439D-9A75-704BB09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2101-3E95-45DB-83F4-3E6C0145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C0A-E040-4708-8760-62A19C50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BEEF-E2B5-4E87-9C75-B1C282D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FFA7-B72A-4B73-B698-F98BFDC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4DD-3D70-454B-BCB4-7B41B8D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254-3987-45C1-9D81-45761D4B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C7C7-2408-46E5-A7D4-42BCC8E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BE43-B5F4-4F89-AC7A-5072516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9E7-3A0D-4728-AE4A-58132742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DA4B-45CF-4FBB-8EAE-9CCAA500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B276-04C5-4205-92D9-C97A2A05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289E-761E-4EE4-8A05-24B02E9D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A1DF-8A35-4B4F-A812-38DDB689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95A2-EDFE-4168-90EF-D1075A62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9158-AE57-4FB2-A6E2-F2E7A1CD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5C0-4939-4FA0-A02B-14D94CB5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E05B-6892-4901-A8EE-E5E4AB7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4829-77A7-4AA5-AC86-1667460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8542-9B0D-492C-B2BB-39D21AD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307C-B9A2-4E10-BB05-62D8DAF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5E61-8366-4DA5-9BBC-23FDC563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B8A9-D7FA-441D-815E-AF0A2170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F5D3-36F3-4273-9B50-0BC36ED7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662C-1B83-4D6E-9E53-5A8E6401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5146-4D1B-48EE-BF5B-374552E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D563-3D5A-4BE6-8BD8-A465796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70E-53A7-4E5C-A6A6-B53C0E7F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498A-BCEF-4150-8BB7-A97D4C2B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E5EB-1827-44F6-9385-89764502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3E0B-617F-4B05-A97A-5CBE73B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AEAD-DFB8-427A-99A9-238545F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3674-CA6F-48F9-A266-09D791D2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AA34-09BC-4E7B-9EE7-5513762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B654-F00A-4AF9-A088-1AA3BF46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6170-B9C8-4A75-9700-E4AAE52D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EF08-8C5E-49CA-B410-FCBA876F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16F-ACFD-4FEC-90D5-F3AF5241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1A2-F8E7-4D83-9082-BE495CE6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669-7504-49FD-B11D-C98BB42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97C-8B7E-43BF-B47A-4893838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B55-7DD7-42A4-85B6-CF26D07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33DD-52D4-4B68-A35F-97CAF03CF70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BCD-43B3-4DA7-A209-8157EC18E5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2483-9923-4E87-99E9-378DFD96B7B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5B7-8831-41C4-B6DF-D45174C05C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Arial"/>
              </a:rPr>
              <a:t>Молодежные субкультуры</a:t>
            </a:r>
            <a:endParaRPr b="0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4752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влияет на поведение подро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д исслед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пользуемые материал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Admin</cp:lastModifiedBy>
  <dcterms:modified xsi:type="dcterms:W3CDTF">2009-12-01T16:54:59Z</dcterms:modified>
  <cp:revision>62</cp:revision>
  <dc:subject/>
  <dc:title>Слайд 1</dc:title>
</cp:coreProperties>
</file>